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212-B635-49D1-A6CC-48C0BDEB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4DB-BE0D-421C-8E09-94FDACD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1C8-1BF3-4DDC-886D-7B71C092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66A-340A-4609-9E62-CB8FDE3D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FF8-8D4D-4E72-A917-4BD03264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9403-ABBE-4AF7-A693-460D40A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D15-9977-4E46-B836-B744DF08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C6F5-C16A-4E56-A68B-5F68BD13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DAD4-2E1B-4357-B57E-141E3EC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110-91CF-4355-9497-E761428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529-3050-4240-B69E-EAA0BA6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787-257E-4874-8F07-C74B562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FC8E-6F9A-45ED-AA03-2818949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A869-8939-443E-8AEC-EB046E1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B6A-5800-4619-B42D-7FC1B01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D641-AACF-4FBC-9C75-561F32F8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8E4-E0BE-4F4A-92E1-676DB992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F01-80B8-4055-84EF-C19184C6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2B7-ED80-4F15-A1DA-339F4FF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BC4-8A87-44C7-93A7-4F34E6D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579-CBBD-4B81-8625-1052B885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6DB-A687-4966-B398-4D6727D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A38-A325-4364-B86A-DBBB09AC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DD3-D4E4-4121-A712-56797A1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A0CA-BCFA-4F32-B13B-B5192E0F84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CEB-7A6E-411E-8406-03625552A6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mage:Adolf_Hitler_cph_3a48970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mage:Tojo2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dinphoto.org.uk/0_MAPS/0_maps_of_europe.htm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7/7e/Second_world_war_europe_1941-1942_map_en.png" TargetMode="Externa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w2_allied_axis.gif" TargetMode="Externa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Stalin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p2.blogger.com/_M7syfSkg-e8/RkugwLThKBI/AAAAAAAAAMU/VdcplbFgePw/s1600-h/enemyears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ebd189"/>
                </a:solidFill>
                <a:latin typeface="Andy"/>
              </a:rPr>
              <a:t>Section 13.1: America and the War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ebd189"/>
                </a:solidFill>
                <a:latin typeface="Andy"/>
              </a:rPr>
              <a:t>The rise of totalitarian dictatorships in Europe and Asia challenges the U.S. policy of Neutrality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0512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ndy"/>
              </a:rPr>
              <a:t>Chapter 13: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Andy"/>
              </a:rPr>
              <a:t>A World In Flam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ebd18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Hilter &amp; German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Hatred towards __ and those Germans in power during WW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Andy"/>
              </a:rPr>
              <a:t>Mein Kampf</a:t>
            </a:r>
            <a:r>
              <a:rPr b="0" i="1" lang="en-US" sz="24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while in p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azis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. 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Nationalis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ii.   Racism –”__” r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iii.  “</a:t>
            </a:r>
            <a:r>
              <a:rPr b="0" i="1" lang="en-US" sz="2000" spc="-1" strike="noStrike">
                <a:solidFill>
                  <a:srgbClr val="eaeaea"/>
                </a:solidFill>
                <a:latin typeface="Andy"/>
              </a:rPr>
              <a:t>lebensraum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” - ___ expan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d.  1934 – Pres. by corrupt ele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Adolf Hitl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371600"/>
            <a:ext cx="3722400" cy="5029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53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.  Jap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uggled more due to depression and increased tariff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litary blamed corrupt politicians; supported by citiz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vasion required to get needed resources = Manchu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mocracy = Un-Japanese and b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Hideki Tojo"/>
          <p:cNvPicPr/>
          <p:nvPr/>
        </p:nvPicPr>
        <p:blipFill>
          <a:blip r:embed="rId1"/>
          <a:stretch/>
        </p:blipFill>
        <p:spPr>
          <a:xfrm>
            <a:off x="4876920" y="0"/>
            <a:ext cx="3178080" cy="457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0" y="371484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Extent of Manchuria according to Definition 1 (dark red), Definition 3 (dark red + medium red) and Definition 4 (dark red + medium red + light red)      Dark Red      Medium Red      Light Red"/>
          <p:cNvPicPr/>
          <p:nvPr/>
        </p:nvPicPr>
        <p:blipFill>
          <a:blip r:embed="rId1"/>
          <a:stretch/>
        </p:blipFill>
        <p:spPr>
          <a:xfrm>
            <a:off x="1371600" y="457200"/>
            <a:ext cx="72388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American Neutral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Nye Committe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vestigating influence of arms manufactures in entering WW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moted isolationis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utrality Act of 193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kept __out of future 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Andy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Outlawed arms sales or loans to nations at war or civil w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eutrality Act of 193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Sales of nonmilitary supplies on a “cash-and-carry” basis on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37120" y="1676520"/>
            <a:ext cx="4106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Setting the S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 Axis Powers:  Germany, Italy, &amp; Jap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ies:  France, GB, Rus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Axis Leaders Cartoon"/>
          <p:cNvPicPr/>
          <p:nvPr/>
        </p:nvPicPr>
        <p:blipFill>
          <a:blip r:embed="rId1"/>
          <a:stretch/>
        </p:blipFill>
        <p:spPr>
          <a:xfrm>
            <a:off x="2057400" y="2530440"/>
            <a:ext cx="54100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E.  Pres. Roosevelt’s Internationalism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ndy"/>
              </a:rPr>
              <a:t>Internationalism:</a:t>
            </a: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  idea that trade will promote prosperity and decrease chances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Japan continues to invade Ch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70560" indent="-5227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ndy"/>
              </a:rPr>
              <a:t>US sends arms and supplies; war never declared by Japan therefore, neutrality acts not enfor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ve on to 13.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Japan, Nationalism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 &amp; Expan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nvaded China’s Province of Manchu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League of Nations(LN) responded by doing ___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Japan quits L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Japan continues to invade Chi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US sends arms and supplies; war never declared by Japan therefore, neutrality acts not enforc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7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0516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deki Toj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per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rohi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Hideki Toj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304920"/>
            <a:ext cx="2286000" cy="32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84400" y="18111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90000" tIns="-788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858000" y="371484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Vocabul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ctator: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e ruling absolutely and often oppressively;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scism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political philosophy that puts nation and often race before the individual; lead by a dictator;  socialist; anticommunist;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ommunism: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Advocates one-party rule and the elimination of private property, and does not tolerate opposition;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ist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eader of the country is a military offi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apitalist/Socialist: spectrum dia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Failures of Treaty of Versail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German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Blamed for ______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Lost ____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Sovi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Lost _____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Unrealistic expectation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nd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for new “democracies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War debt, homelessness, unemployment 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__ of Democracies  = increased dictatorshi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Map of Europe  -  2001  -  enlarg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762120"/>
            <a:ext cx="3073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ctator grap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On Hitler’s terms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Also withdraws from ___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Violates Treaty of Versail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___ build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Troops sent into Rhineland…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Signed Rome-Berlin Axis Pact 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League of Nations respons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The Rhineland includes parts of Germany west of the Rhine river (in yellow), as well as areas on the east bank."/>
          <p:cNvPicPr/>
          <p:nvPr/>
        </p:nvPicPr>
        <p:blipFill>
          <a:blip r:embed="rId2"/>
          <a:stretch/>
        </p:blipFill>
        <p:spPr>
          <a:xfrm>
            <a:off x="4800600" y="1922400"/>
            <a:ext cx="43434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Mussolini invades ____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League of Nations respons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" descr="Map of the Continents of the World, Africa, Antarctica, Asia, Australia, Europe, North America, and South America"/>
          <p:cNvPicPr/>
          <p:nvPr/>
        </p:nvPicPr>
        <p:blipFill>
          <a:blip r:embed="rId1"/>
          <a:stretch/>
        </p:blipFill>
        <p:spPr>
          <a:xfrm>
            <a:off x="304920" y="2133720"/>
            <a:ext cx="88390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A.  The Rise of Dicta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Residuals from first w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 unr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Rise of ___ lead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___ expan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Adolf Hitler"/>
          <p:cNvPicPr/>
          <p:nvPr/>
        </p:nvPicPr>
        <p:blipFill>
          <a:blip r:embed="rId1"/>
          <a:stretch/>
        </p:blipFill>
        <p:spPr>
          <a:xfrm>
            <a:off x="5029200" y="380880"/>
            <a:ext cx="3809880" cy="271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2185920" cy="2590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Сурет:Second world war europe 1941-1942 map e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276720"/>
            <a:ext cx="373392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United States “Involvement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Wanted to practice isolatio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Kellogg-Briand Pact- 62 nations agreed not to make war; can still defend themselv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Neutrality Acts – kept __out of future 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Outlawed arms sales or loans to nations at war or civil w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86520" y="1676520"/>
            <a:ext cx="395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U.S. becomes less neutr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Fascist Gen. Francisco Franco of __ gets support from _ and_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Americans volunteer to f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Democratic countries send food and clothing; fear of ______ situ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Hitler and Mussolini demonstrate ___ streng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Franco becomes Spain‘s new totalitarian lea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" descr="image 1"/>
          <p:cNvPicPr/>
          <p:nvPr/>
        </p:nvPicPr>
        <p:blipFill>
          <a:blip r:embed="rId1"/>
          <a:stretch/>
        </p:blipFill>
        <p:spPr>
          <a:xfrm>
            <a:off x="5181480" y="1371600"/>
            <a:ext cx="29689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96920" y="26668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http://en.wikipedia.org/wiki/Image:Ww2_allied_axis.gi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ritorial exchange between 1939-1945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1160" y="857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" descr="may_9_red_square.jpg"/>
          <p:cNvPicPr/>
          <p:nvPr/>
        </p:nvPicPr>
        <p:blipFill>
          <a:blip r:embed="rId1"/>
          <a:stretch/>
        </p:blipFill>
        <p:spPr>
          <a:xfrm>
            <a:off x="2857680" y="857160"/>
            <a:ext cx="3429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The Rise of Dicta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6" name="" descr="Joseph Stalin"/>
          <p:cNvPicPr/>
          <p:nvPr/>
        </p:nvPicPr>
        <p:blipFill>
          <a:blip r:embed="rId1"/>
          <a:stretch/>
        </p:blipFill>
        <p:spPr>
          <a:xfrm>
            <a:off x="6781680" y="3886200"/>
            <a:ext cx="2087640" cy="281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Portrait of Benito Mussolini"/>
          <p:cNvPicPr/>
          <p:nvPr/>
        </p:nvPicPr>
        <p:blipFill>
          <a:blip r:embed="rId2"/>
          <a:stretch/>
        </p:blipFill>
        <p:spPr>
          <a:xfrm>
            <a:off x="1066680" y="1600200"/>
            <a:ext cx="181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ideki Tojo"/>
          <p:cNvPicPr/>
          <p:nvPr/>
        </p:nvPicPr>
        <p:blipFill>
          <a:blip r:embed="rId3"/>
          <a:stretch/>
        </p:blipFill>
        <p:spPr>
          <a:xfrm>
            <a:off x="2895480" y="3962520"/>
            <a:ext cx="201312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dolf Hitler"/>
          <p:cNvPicPr/>
          <p:nvPr/>
        </p:nvPicPr>
        <p:blipFill>
          <a:blip r:embed="rId4"/>
          <a:stretch/>
        </p:blipFill>
        <p:spPr>
          <a:xfrm>
            <a:off x="5029200" y="1447920"/>
            <a:ext cx="2084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ebd1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ito “Il Duce” Mussolini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&amp; Ita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ndy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 Fascist gov’t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Managed to gain wide support because he opposed _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Backed by the __, a fascist militia, he muscled his way into the premier pos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Exploited fears of communism on Italy to gain 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Portrait of Benito Mussolini"/>
          <p:cNvPicPr/>
          <p:nvPr/>
        </p:nvPicPr>
        <p:blipFill>
          <a:blip r:embed="rId1"/>
          <a:stretch/>
        </p:blipFill>
        <p:spPr>
          <a:xfrm>
            <a:off x="5486400" y="1600200"/>
            <a:ext cx="29955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ebd189"/>
              </a:buClr>
              <a:buFont typeface="Andy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ndy"/>
              </a:rPr>
              <a:t>Joseph Stalin: the “Man of Steel” &amp; the Soviet Un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Came into power after __ di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ndy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1922: formation of Union of Soviet Socialist Republics/USS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ndy"/>
              </a:rPr>
              <a:t>c.   changed __&amp;__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4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.   Agriculture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ndy"/>
              </a:rPr>
              <a:t>collectives: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 farms under govt cont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4114800" cy="248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Joseph Stal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22800" y="1447920"/>
            <a:ext cx="1973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Stalin’s Plans con’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ii.  Industry = “Five year plan” (x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a.   Steel production increased by 4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b.   3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ndy"/>
              </a:rPr>
              <a:t>rd</a:t>
            </a: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 largest industrial p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ndy"/>
              </a:rPr>
              <a:t>c.   Wages decreased by 43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2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gnitogor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eel mill ci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73360" y="5973840"/>
            <a:ext cx="45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night-view-lg.jpg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d.  Stalin’s Police S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552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191916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06668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334120" y="1143000"/>
            <a:ext cx="352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Arial"/>
              </a:rPr>
              <a:t>Stalin’s Great Terror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swer the following questions after completing the assigned rea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did Stalin do during his “Reign of Terror?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did he do thi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ndy"/>
              </a:rPr>
              <a:t>Stalin’s “Great Purge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87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Andy"/>
              </a:rPr>
              <a:t>Gu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Gulag"/>
          <p:cNvPicPr/>
          <p:nvPr/>
        </p:nvPicPr>
        <p:blipFill>
          <a:blip r:embed="rId1"/>
          <a:stretch/>
        </p:blipFill>
        <p:spPr>
          <a:xfrm>
            <a:off x="838080" y="1066680"/>
            <a:ext cx="80773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2-01-26T20:31:38Z</dcterms:modified>
  <cp:revision>42</cp:revision>
  <dc:subject/>
  <dc:title>PowerPoint Presentation</dc:title>
</cp:coreProperties>
</file>